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4FD3C-D6FB-4758-B654-BA218EC52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7" name="PlaceHolder 2"/>
          <p:cNvSpPr>
            <a:spLocks noGrp="1"/>
          </p:cNvSpPr>
          <p:nvPr>
            <p:ph/>
          </p:nvPr>
        </p:nvSpPr>
        <p:spPr>
          <a:xfrm>
            <a:off x="539640" y="1767960"/>
            <a:ext cx="881856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4415760"/>
            <a:ext cx="881856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151AE-4E14-4F60-805E-EFB21C8A6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0" name="PlaceHolder 2"/>
          <p:cNvSpPr>
            <a:spLocks noGrp="1"/>
          </p:cNvSpPr>
          <p:nvPr>
            <p:ph/>
          </p:nvPr>
        </p:nvSpPr>
        <p:spPr>
          <a:xfrm>
            <a:off x="539640" y="17679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058720" y="17679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44157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058720" y="44157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1218B-0BEF-47EE-B191-BF12E8778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5" name="PlaceHolder 2"/>
          <p:cNvSpPr>
            <a:spLocks noGrp="1"/>
          </p:cNvSpPr>
          <p:nvPr>
            <p:ph/>
          </p:nvPr>
        </p:nvSpPr>
        <p:spPr>
          <a:xfrm>
            <a:off x="539640" y="1767960"/>
            <a:ext cx="283932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21160" y="1767960"/>
            <a:ext cx="283932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503040" y="1767960"/>
            <a:ext cx="283932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4415760"/>
            <a:ext cx="283932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21160" y="4415760"/>
            <a:ext cx="283932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503040" y="4415760"/>
            <a:ext cx="283932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196AB-FE82-4E47-95C6-7889A1A32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9640" y="1767960"/>
            <a:ext cx="8818560" cy="5069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211AB-583B-475B-9F55-F8B1A4D84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8" name="PlaceHolder 2"/>
          <p:cNvSpPr>
            <a:spLocks noGrp="1"/>
          </p:cNvSpPr>
          <p:nvPr>
            <p:ph/>
          </p:nvPr>
        </p:nvSpPr>
        <p:spPr>
          <a:xfrm>
            <a:off x="539640" y="1767960"/>
            <a:ext cx="8818560" cy="5069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A78AA-1F55-4366-8D90-B02DD2FB7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0" name="PlaceHolder 2"/>
          <p:cNvSpPr>
            <a:spLocks noGrp="1"/>
          </p:cNvSpPr>
          <p:nvPr>
            <p:ph/>
          </p:nvPr>
        </p:nvSpPr>
        <p:spPr>
          <a:xfrm>
            <a:off x="539640" y="1767960"/>
            <a:ext cx="4303440" cy="5069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058720" y="1767960"/>
            <a:ext cx="4303440" cy="5069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AFEE3-63EA-48BE-9F23-D642B7361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BD0B1-2006-4950-A696-28901A517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640" y="539640"/>
            <a:ext cx="8818560" cy="47404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D7422-6F6A-461F-BC5D-F15EDB11E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 name="PlaceHolder 2"/>
          <p:cNvSpPr>
            <a:spLocks noGrp="1"/>
          </p:cNvSpPr>
          <p:nvPr>
            <p:ph/>
          </p:nvPr>
        </p:nvSpPr>
        <p:spPr>
          <a:xfrm>
            <a:off x="539640" y="17679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058720" y="1767960"/>
            <a:ext cx="4303440" cy="5069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44157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FB87-7892-4CF5-9267-F1BDB0BEC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9" name="PlaceHolder 2"/>
          <p:cNvSpPr>
            <a:spLocks noGrp="1"/>
          </p:cNvSpPr>
          <p:nvPr>
            <p:ph/>
          </p:nvPr>
        </p:nvSpPr>
        <p:spPr>
          <a:xfrm>
            <a:off x="539640" y="1767960"/>
            <a:ext cx="4303440" cy="5069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058720" y="17679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058720" y="44157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8EEBF-B593-4A77-B4E8-B7135F29C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3" name="PlaceHolder 2"/>
          <p:cNvSpPr>
            <a:spLocks noGrp="1"/>
          </p:cNvSpPr>
          <p:nvPr>
            <p:ph/>
          </p:nvPr>
        </p:nvSpPr>
        <p:spPr>
          <a:xfrm>
            <a:off x="539640" y="17679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058720" y="17679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4415760"/>
            <a:ext cx="881856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DFF29-41C2-42C0-8633-7E5BC1F51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9640" y="1767960"/>
            <a:ext cx="8818560" cy="5069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39280" y="6995880"/>
            <a:ext cx="2336760" cy="5173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480" y="6995880"/>
            <a:ext cx="3179880" cy="5173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7080" y="6995880"/>
            <a:ext cx="2336760" cy="5173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3C55AC-96AB-45C3-A2A1-7AE3CB8B5EE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ΕΚΦΟΒΙΣΜΟΣ</a:t>
            </a:r>
            <a:endParaRPr b="0" lang="en-US" sz="4400" spc="-1" strike="noStrike">
              <a:solidFill>
                <a:srgbClr val="ffffff"/>
              </a:solidFill>
              <a:latin typeface="Arial"/>
            </a:endParaRPr>
          </a:p>
        </p:txBody>
      </p:sp>
      <p:sp>
        <p:nvSpPr>
          <p:cNvPr id="42" name="PlaceHolder 2"/>
          <p:cNvSpPr>
            <a:spLocks noGrp="1"/>
          </p:cNvSpPr>
          <p:nvPr>
            <p:ph type="subTitle"/>
          </p:nvPr>
        </p:nvSpPr>
        <p:spPr>
          <a:xfrm>
            <a:off x="539280" y="1767960"/>
            <a:ext cx="8820360" cy="507060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4 ΕΠΑΛ ΚΑΛΑΤΑΣ</a:t>
            </a:r>
            <a:endParaRPr b="0" lang="en-US" sz="3200" spc="-1" strike="noStrike">
              <a:solidFill>
                <a:srgbClr val="ffffff"/>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ΤΜΗΜΑ Α1Τ</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ΣΕΞΟΥΑΛΙΚΟΣ</a:t>
            </a:r>
            <a:endParaRPr b="0" lang="en-US" sz="4400" spc="-1" strike="noStrike">
              <a:solidFill>
                <a:srgbClr val="ffffff"/>
              </a:solidFill>
              <a:latin typeface="Arial"/>
            </a:endParaRPr>
          </a:p>
        </p:txBody>
      </p:sp>
      <p:sp>
        <p:nvSpPr>
          <p:cNvPr id="60"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υβριστικά σχόλια, σκίτσα και γκράφιτι με σεξουαλικό περιεχόμενο, ανήθικες χειρονομίες, ανεπιθύμητο άγγιγμα, μέχρι και σοβαρές σεξουαλικές επιθέσεις.</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ΤΡΟΠΟΙ ΠΡΟΛΗΨΗΣ </a:t>
            </a:r>
            <a:endParaRPr b="0" lang="en-US" sz="4400" spc="-1" strike="noStrike">
              <a:solidFill>
                <a:srgbClr val="ffffff"/>
              </a:solidFill>
              <a:latin typeface="Arial"/>
            </a:endParaRPr>
          </a:p>
        </p:txBody>
      </p:sp>
      <p:sp>
        <p:nvSpPr>
          <p:cNvPr id="62"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Στα πλαίσια της πρόληψης έχουν εφαρμοστεί κάποια προγράμματα κατά του εκφοβισμού και της ενδοσχολικής βίας (π.χ. Νορβηγικό μοντέλο Dan Olweus, φινλανδικό μοντέλο KIVAKOULOU, στην Ελλάδα το πρόγραμμα της  Ε.Ψ.Υ.Π.Ε. «Stop στην ενδοσχολική βία» κ.α.). </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ΣΕ ΕΠΙΠΕΔΟ ΣΧΟΛΕΙΟΥ</a:t>
            </a:r>
            <a:endParaRPr b="0" lang="en-US" sz="4400" spc="-1" strike="noStrike">
              <a:solidFill>
                <a:srgbClr val="ffffff"/>
              </a:solidFill>
              <a:latin typeface="Arial"/>
            </a:endParaRPr>
          </a:p>
        </p:txBody>
      </p:sp>
      <p:sp>
        <p:nvSpPr>
          <p:cNvPr id="64" name="PlaceHolder 2"/>
          <p:cNvSpPr>
            <a:spLocks noGrp="1"/>
          </p:cNvSpPr>
          <p:nvPr>
            <p:ph/>
          </p:nvPr>
        </p:nvSpPr>
        <p:spPr>
          <a:xfrm>
            <a:off x="539280" y="1768320"/>
            <a:ext cx="8820360" cy="5083200"/>
          </a:xfrm>
          <a:prstGeom prst="rect">
            <a:avLst/>
          </a:prstGeom>
          <a:noFill/>
          <a:ln w="0">
            <a:noFill/>
          </a:ln>
        </p:spPr>
        <p:txBody>
          <a:bodyPr lIns="0" rIns="0" tIns="28080" bIns="0" anchor="t">
            <a:normAutofit fontScale="99000"/>
          </a:bodyPr>
          <a:p>
            <a:pPr marL="427320" indent="-320400" algn="just">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σύνταξη Σχολικής Επιτροπής ενάντια στον εκφοβισμό &amp; την ενδοσχολική βία</a:t>
            </a:r>
            <a:endParaRPr b="0" lang="en-US" sz="3200" spc="-1" strike="noStrike">
              <a:solidFill>
                <a:srgbClr val="ffffff"/>
              </a:solidFill>
              <a:latin typeface="Arial"/>
            </a:endParaRPr>
          </a:p>
          <a:p>
            <a:pPr marL="427320" indent="-320400" algn="just">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σύνταξη Διακήρυξης του σχολείου ενάντια στη βία: δικαιώματα-υποχρεώσεις-καθήκοντα για όλα τα μέλη της σχολικής κοινότητας</a:t>
            </a:r>
            <a:endParaRPr b="0" lang="en-US" sz="3200" spc="-1" strike="noStrike">
              <a:solidFill>
                <a:srgbClr val="ffffff"/>
              </a:solidFill>
              <a:latin typeface="Arial"/>
            </a:endParaRPr>
          </a:p>
          <a:p>
            <a:pPr marL="427320" indent="-320400" algn="just">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αύξηση της επίβλεψης του σχολικού χώρου</a:t>
            </a:r>
            <a:endParaRPr b="0" lang="en-US" sz="3200" spc="-1" strike="noStrike">
              <a:solidFill>
                <a:srgbClr val="ffffff"/>
              </a:solidFill>
              <a:latin typeface="Arial"/>
            </a:endParaRPr>
          </a:p>
          <a:p>
            <a:pPr marL="427320" indent="-320400" algn="just">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ευαισθητοποίηση και συνεργασία με τους γονείς, προκειμένου να σταματήσει ο κύκλος αναπαραγωγής και ενθάρρυνσης της ενδοσχολικής βίας</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ΣΕ ΕΠΙΠΕΔΟ ΤΑΞΗΣ</a:t>
            </a:r>
            <a:endParaRPr b="0" lang="en-US" sz="4400" spc="-1" strike="noStrike">
              <a:solidFill>
                <a:srgbClr val="ffffff"/>
              </a:solidFill>
              <a:latin typeface="Arial"/>
            </a:endParaRPr>
          </a:p>
        </p:txBody>
      </p:sp>
      <p:sp>
        <p:nvSpPr>
          <p:cNvPr id="66" name="PlaceHolder 2"/>
          <p:cNvSpPr>
            <a:spLocks noGrp="1"/>
          </p:cNvSpPr>
          <p:nvPr>
            <p:ph/>
          </p:nvPr>
        </p:nvSpPr>
        <p:spPr>
          <a:xfrm>
            <a:off x="539280" y="1767960"/>
            <a:ext cx="8820360" cy="531684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2800" spc="-1" strike="noStrike">
                <a:solidFill>
                  <a:srgbClr val="ffffff"/>
                </a:solidFill>
                <a:latin typeface="Arial"/>
              </a:rPr>
              <a:t>συζήτηση στην τάξη για τον ορισμό &amp; τις μορφές της ενδοσχολικής βίας και του εκφοβισμού</a:t>
            </a:r>
            <a:endParaRPr b="0" lang="en-US" sz="28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συζήτηση για τις επιπτώσεις του εκφοβισμού</a:t>
            </a:r>
            <a:endParaRPr b="0" lang="en-US" sz="28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 </a:t>
            </a:r>
            <a:r>
              <a:rPr b="0" lang="en-US" sz="2800" spc="-1" strike="noStrike">
                <a:solidFill>
                  <a:srgbClr val="ffffff"/>
                </a:solidFill>
                <a:latin typeface="Arial"/>
              </a:rPr>
              <a:t>ενημέρωση σχετικά με το γιατί η ενδοσχολική βία και ο εκφοβισμός δεν είναι αποδεκτά από το σχολείο</a:t>
            </a:r>
            <a:endParaRPr b="0" lang="en-US" sz="28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 </a:t>
            </a:r>
            <a:r>
              <a:rPr b="0" lang="en-US" sz="2800" spc="-1" strike="noStrike">
                <a:solidFill>
                  <a:srgbClr val="ffffff"/>
                </a:solidFill>
                <a:latin typeface="Arial"/>
              </a:rPr>
              <a:t>τρόποι &amp; προτάσεις για πρόληψη και αντιμετώπιση από τους μαθητές</a:t>
            </a:r>
            <a:endParaRPr b="0" lang="en-US" sz="28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παροχή βοήθειας από μαθητές σε άλλους, για την επίλυση των συγκρούσεων που θα μπορούσαν να οδηγήσουν σε εκφοβισμό</a:t>
            </a:r>
            <a:endParaRPr b="0" lang="en-US" sz="2800" spc="-1" strike="noStrike">
              <a:solidFill>
                <a:srgbClr val="ffffff"/>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ΤΡΟΠΟΙ ΑΝΤΙΜΕΤΩΠΙΣΗΣ</a:t>
            </a:r>
            <a:endParaRPr b="0" lang="en-US" sz="4400" spc="-1" strike="noStrike">
              <a:solidFill>
                <a:srgbClr val="ffffff"/>
              </a:solidFill>
              <a:latin typeface="Arial"/>
            </a:endParaRPr>
          </a:p>
        </p:txBody>
      </p:sp>
      <p:sp>
        <p:nvSpPr>
          <p:cNvPr id="68"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Κάθε μέλος της σχολικής κοινότητας έχει ρόλο και ευθύνη για την αντιμετώπιση του σχολικού εκφοβισμού. Ο βαθμός εμπλοκής κάθε μέλους, σχετίζεται τόσο με την ιδιότητά του, όσο και με τη σοβαρότητα, τη συχνότητα και την ένταση του περιστατικού εκφοβισμού. Άλλος είναι ο ρόλος και η ευθύνη του διευθυντή του σχολείου, άλλος του δασκάλου, άλλος των συμμαθητών, άλλος των γονιών.</a:t>
            </a:r>
            <a:endParaRPr b="0" lang="en-US" sz="3200" spc="-1" strike="noStrike">
              <a:solidFill>
                <a:srgbClr val="ffffff"/>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ΔΙΕΥΘΥΝΤΗΣ</a:t>
            </a:r>
            <a:endParaRPr b="0" lang="en-US" sz="4400" spc="-1" strike="noStrike">
              <a:solidFill>
                <a:srgbClr val="ffffff"/>
              </a:solidFill>
              <a:latin typeface="Arial"/>
            </a:endParaRPr>
          </a:p>
        </p:txBody>
      </p:sp>
      <p:sp>
        <p:nvSpPr>
          <p:cNvPr id="70" name="PlaceHolder 2"/>
          <p:cNvSpPr>
            <a:spLocks noGrp="1"/>
          </p:cNvSpPr>
          <p:nvPr>
            <p:ph/>
          </p:nvPr>
        </p:nvSpPr>
        <p:spPr>
          <a:xfrm>
            <a:off x="539280" y="1767960"/>
            <a:ext cx="8820360" cy="5070600"/>
          </a:xfrm>
          <a:prstGeom prst="rect">
            <a:avLst/>
          </a:prstGeom>
          <a:noFill/>
          <a:ln w="0">
            <a:noFill/>
          </a:ln>
        </p:spPr>
        <p:txBody>
          <a:bodyPr lIns="0" rIns="0" tIns="2304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Καταγράψτε το περιστατικό, δίνοντας πληροφορίες για το πού και πότε συνέβη το περιστατικό, για το ποιοι συμμετείχαν, ποιοι παρατηρούσαν, τι μορφή εκφοβισμού ασκήθηκε και περιγράφοντας το τι ακριβώς έγινε.</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Διατηρείστε αρχείο καταγραφής των περιστατικών, ώστε να μπορούν να έχουν εύκολη πρόσβαση σε αυτό και τα υπόλοιπα ενδιαφερόμενα μέρη</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υποστηρικτές του παιδιού που εκφοβίζει, και τη Σχολική Επιτροπή</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Σχεδιάστε τον τρόπο παρακολούθησης του προβλήματος ώστε να έχετε εποπτεία της εξέλιξης της κατάστασης</a:t>
            </a:r>
            <a:endParaRPr b="0" lang="en-US" sz="2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ΔΙΕΘΥΝΤΗΣ</a:t>
            </a:r>
            <a:endParaRPr b="0" lang="en-US" sz="4400" spc="-1" strike="noStrike">
              <a:solidFill>
                <a:srgbClr val="ffffff"/>
              </a:solidFill>
              <a:latin typeface="Arial"/>
            </a:endParaRPr>
          </a:p>
        </p:txBody>
      </p:sp>
      <p:sp>
        <p:nvSpPr>
          <p:cNvPr id="72"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Προσδιορίστε αν πρόκειται για επαναλαμβανόμενη συμπεριφορά παραβίασης των κανόνων ενάντια στη βία</a:t>
            </a:r>
            <a:endParaRPr b="0" lang="en-US" sz="32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Αν πρόκειται για επαναλαμβανόμενη εκφοβιστική συμπεριφορά, επικοινωνήστε με τους γονείς του παιδιού τηλεφωνικά και κανονίστε μια συνάντηση για να συζητήσετε</a:t>
            </a:r>
            <a:endParaRPr b="0" lang="en-US" sz="32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Καθορίστε τις συνέπειες για το παιδί που εκφοβίζει, ύστερα από τη συζήτηση με τους γονείς, το παιδί που εκφοβίζει, τα παιδιά</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ΣΥΜΜΑΘΗΤΕΣ ΣΤΗΝ ΤΑΞΗ</a:t>
            </a:r>
            <a:endParaRPr b="0" lang="en-US" sz="4400" spc="-1" strike="noStrike">
              <a:solidFill>
                <a:srgbClr val="ffffff"/>
              </a:solidFill>
              <a:latin typeface="Arial"/>
            </a:endParaRPr>
          </a:p>
        </p:txBody>
      </p:sp>
      <p:sp>
        <p:nvSpPr>
          <p:cNvPr id="74" name="PlaceHolder 2"/>
          <p:cNvSpPr>
            <a:spLocks noGrp="1"/>
          </p:cNvSpPr>
          <p:nvPr>
            <p:ph/>
          </p:nvPr>
        </p:nvSpPr>
        <p:spPr>
          <a:xfrm>
            <a:off x="539280" y="1768320"/>
            <a:ext cx="8820360" cy="5600880"/>
          </a:xfrm>
          <a:prstGeom prst="rect">
            <a:avLst/>
          </a:prstGeom>
          <a:noFill/>
          <a:ln w="0">
            <a:noFill/>
          </a:ln>
        </p:spPr>
        <p:txBody>
          <a:bodyPr lIns="0" rIns="0" tIns="2304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Προσδιορίστε ποιοι συμμαθητές σας ήταν παρόντες στο περιστατικό εκφοβισμού</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Ξεκαθαρίστε αν συμμετείχαν ως ουδέτεροι παρατηρητές ή αν ενθάρρυναν το παιδί που εκφοβίζει</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Συζητήστε μαζί τους για το ποια θα ήταν η κατάλληλη συμπεριφορά σε μια τέτοια περίπτωση και για το ποιες ευθύνες έχουν όταν παρατηρούν να συμβαίνει περιστατικό εκφοβισμού</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Συζητήστε σχετικά με το τι θα μπορούσαν να είχαν κάνει για να αποφευχθεί ο εκφοβισμός και να εξασφαλίσουν ένα ασφαλές περιβάλλον τόσο για τους ίδιους όσο και για τους συμμαθητές τους</a:t>
            </a:r>
            <a:endParaRPr b="0" lang="en-US" sz="2600" spc="-1" strike="noStrike">
              <a:solidFill>
                <a:srgbClr val="ffffff"/>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426600"/>
            <a:ext cx="882036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ΓΟΝΕΙΣ ΠΑΙΔΙΟΥ ΠΟΥ ΕΚΦΟΒΙΖΕΤΑΙ</a:t>
            </a:r>
            <a:endParaRPr b="0" lang="en-US" sz="4400" spc="-1" strike="noStrike">
              <a:solidFill>
                <a:srgbClr val="ffffff"/>
              </a:solidFill>
              <a:latin typeface="Arial"/>
            </a:endParaRPr>
          </a:p>
        </p:txBody>
      </p:sp>
      <p:sp>
        <p:nvSpPr>
          <p:cNvPr id="76" name="PlaceHolder 2"/>
          <p:cNvSpPr>
            <a:spLocks noGrp="1"/>
          </p:cNvSpPr>
          <p:nvPr>
            <p:ph/>
          </p:nvPr>
        </p:nvSpPr>
        <p:spPr>
          <a:xfrm>
            <a:off x="539280" y="1768320"/>
            <a:ext cx="8820360" cy="5716800"/>
          </a:xfrm>
          <a:prstGeom prst="rect">
            <a:avLst/>
          </a:prstGeom>
          <a:noFill/>
          <a:ln w="0">
            <a:noFill/>
          </a:ln>
        </p:spPr>
        <p:txBody>
          <a:bodyPr lIns="0" rIns="0" tIns="28080" bIns="0" anchor="t">
            <a:normAutofit fontScale="99000"/>
          </a:bodyPr>
          <a:p>
            <a:pPr marL="42732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32040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Συνεργαστείτε στενά με το σχολείο για να πληροφορηθείτε για την έκταση και τη σοβαρότητα του περιστατικού καθώς και για τους τρόπους αντιμετώπισής του</a:t>
            </a:r>
            <a:endParaRPr b="0" lang="en-US" sz="3200" spc="-1" strike="noStrike">
              <a:solidFill>
                <a:srgbClr val="ffffff"/>
              </a:solidFill>
              <a:latin typeface="Arial"/>
            </a:endParaRPr>
          </a:p>
          <a:p>
            <a:pPr marL="427320" indent="-32040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Παρέχετε στο παιδί σας υποστήριξη και ασφάλεια, χωρίς να το κατακρίνετε</a:t>
            </a:r>
            <a:endParaRPr b="0" lang="en-US" sz="3200" spc="-1" strike="noStrike">
              <a:solidFill>
                <a:srgbClr val="ffffff"/>
              </a:solidFill>
              <a:latin typeface="Arial"/>
            </a:endParaRPr>
          </a:p>
          <a:p>
            <a:pPr marL="427320" indent="-32040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Ακούστε προσεκτικά τι έχει να σας πει το παιδί σας για τα συναισθήματά του και για τις ανάγκες του</a:t>
            </a:r>
            <a:endParaRPr b="0" lang="en-US" sz="3200" spc="-1" strike="noStrike">
              <a:solidFill>
                <a:srgbClr val="ffffff"/>
              </a:solidFill>
              <a:latin typeface="Arial"/>
            </a:endParaRPr>
          </a:p>
          <a:p>
            <a:pPr marL="427320" indent="-32040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426600"/>
            <a:ext cx="882036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ΓΟΝΕΙΣ ΠΑΙΔΙΟΥ ΠΟΥ ΕΚΦΟΒΙΖΕΤΑΙ</a:t>
            </a:r>
            <a:endParaRPr b="0" lang="en-US" sz="4400" spc="-1" strike="noStrike">
              <a:solidFill>
                <a:srgbClr val="ffffff"/>
              </a:solidFill>
              <a:latin typeface="Arial"/>
            </a:endParaRPr>
          </a:p>
        </p:txBody>
      </p:sp>
      <p:sp>
        <p:nvSpPr>
          <p:cNvPr id="78"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Παρακολουθείτε την εξέλιξη της κατάστασης αλλά και την υγεία του παιδιού σας</a:t>
            </a:r>
            <a:endParaRPr b="0" lang="en-US" sz="32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Αν το παιδί σας παραπονιέται για μεγάλο χρονικό διάστημα ότι έχει σωματικούς πόνους, αν παρατηρείτε ότι έχει δυσκολίες στον ύπνο ή αν αρνείται επίμονα να πάει στο σχολείο, επισκεφτείτε έναν ειδικό ψυχικής υγείας για παιδιά.</a:t>
            </a:r>
            <a:endParaRPr b="0" lang="en-US" sz="3200" spc="-1" strike="noStrike">
              <a:solidFill>
                <a:srgbClr val="ffffff"/>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ΟΡΙΣΜΟΣ</a:t>
            </a:r>
            <a:endParaRPr b="0" lang="en-US" sz="4400" spc="-1" strike="noStrike">
              <a:solidFill>
                <a:srgbClr val="ffffff"/>
              </a:solidFill>
              <a:latin typeface="Arial"/>
            </a:endParaRPr>
          </a:p>
        </p:txBody>
      </p:sp>
      <p:sp>
        <p:nvSpPr>
          <p:cNvPr id="44" name="PlaceHolder 2"/>
          <p:cNvSpPr>
            <a:spLocks noGrp="1"/>
          </p:cNvSpPr>
          <p:nvPr>
            <p:ph/>
          </p:nvPr>
        </p:nvSpPr>
        <p:spPr>
          <a:xfrm>
            <a:off x="828720" y="1728360"/>
            <a:ext cx="8820000" cy="5070600"/>
          </a:xfrm>
          <a:prstGeom prst="rect">
            <a:avLst/>
          </a:prstGeom>
          <a:noFill/>
          <a:ln w="0">
            <a:noFill/>
          </a:ln>
        </p:spPr>
        <p:txBody>
          <a:bodyPr lIns="0" rIns="0" tIns="2808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Ο σχολικός εκφοβισμός  είναι ένα φαινόμενο νεανικής παραβατικότητας. Ο σχολικός εκφοβισμός αναφέρεται στη χρήση βίας μεταξύ μαθητών ή συνομηλίκων παιδιών με στόχο να προκληθεί πόνος ή αναστάτωση.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426600"/>
            <a:ext cx="882036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ΓΟΝΕΙΣ ΠΑΙΔΙΟΥ ΠΟΥ ΕΚΦΟΒΙΖΕΙ</a:t>
            </a:r>
            <a:endParaRPr b="0" lang="en-US" sz="4400" spc="-1" strike="noStrike">
              <a:solidFill>
                <a:srgbClr val="ffffff"/>
              </a:solidFill>
              <a:latin typeface="Arial"/>
            </a:endParaRPr>
          </a:p>
        </p:txBody>
      </p:sp>
      <p:sp>
        <p:nvSpPr>
          <p:cNvPr id="80" name="PlaceHolder 2"/>
          <p:cNvSpPr>
            <a:spLocks noGrp="1"/>
          </p:cNvSpPr>
          <p:nvPr>
            <p:ph/>
          </p:nvPr>
        </p:nvSpPr>
        <p:spPr>
          <a:xfrm>
            <a:off x="539280" y="1767960"/>
            <a:ext cx="8820360" cy="5070600"/>
          </a:xfrm>
          <a:prstGeom prst="rect">
            <a:avLst/>
          </a:prstGeom>
          <a:noFill/>
          <a:ln w="0">
            <a:noFill/>
          </a:ln>
        </p:spPr>
        <p:txBody>
          <a:bodyPr lIns="0" rIns="0" tIns="2304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Συζητήστε με τον Διευθυντή του σχολείου για το περιστατικό εκφοβισμού που προκλήθηκε από το παιδί σας</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Συνεργαστείτε με το σχολείο, για την αντιμετώπιση του προβλήματος του παιδιού σας σχετικά με τη βία</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Συνεργαστείτε με τον Διευθυντή και τον δάσκαλο του παιδιού σας για την εφαρμογή των κανόνων, των συνεπειών και την πρόληψη τέτοιων συμπεριφορών</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Παρακολουθήστε την εξέλιξη της κατάστασης και συνεργαστείτε στενά με το σχολείο. </a:t>
            </a:r>
            <a:endParaRPr b="0" lang="en-US" sz="2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ΕΡΕΥΝΑ</a:t>
            </a:r>
            <a:endParaRPr b="0" lang="en-US" sz="4400" spc="-1" strike="noStrike">
              <a:solidFill>
                <a:srgbClr val="ffffff"/>
              </a:solidFill>
              <a:latin typeface="Arial"/>
            </a:endParaRPr>
          </a:p>
        </p:txBody>
      </p:sp>
      <p:sp>
        <p:nvSpPr>
          <p:cNvPr id="82"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ΑΚΟΛΟΥΘΕΙ ΕΡΕΥΝΑ ΤΩΝ ΜΑΘΗΤΩΝ ΓΙΑ ΤΟΝ ΣΧΟΛΙΚΟ ΕΚΦΟΒΙΣΜΟ ΜΕ ΕΡΩΤΗΜΑΤΟΛΟΓΙΑ ΤΑ ΑΠΟΤΕΛΕΣΜΑΤΑ ΤΩΝ ΟΠΟΙΩΝ ΦΑΙΝΟΝΤΑΙ ΠΑΡΑΚΑΤΩ</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576360" y="1768320"/>
            <a:ext cx="8415360" cy="4854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550800" y="1768320"/>
            <a:ext cx="8798040" cy="5070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539640" y="1830240"/>
            <a:ext cx="8820360" cy="4948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539640" y="1778040"/>
            <a:ext cx="8820360" cy="5052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112760" y="1768320"/>
            <a:ext cx="7672320" cy="5070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1200240" y="1768320"/>
            <a:ext cx="7500960" cy="5070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992160" y="1768320"/>
            <a:ext cx="7913880" cy="5070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539640" y="1839960"/>
            <a:ext cx="8820360" cy="4927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ΤΡΟΠΟΙ ΕΜΦΑΝΙΣΗΣ</a:t>
            </a:r>
            <a:endParaRPr b="0" lang="en-US" sz="4400" spc="-1" strike="noStrike">
              <a:solidFill>
                <a:srgbClr val="ffffff"/>
              </a:solidFill>
              <a:latin typeface="Arial"/>
            </a:endParaRPr>
          </a:p>
        </p:txBody>
      </p:sp>
      <p:sp>
        <p:nvSpPr>
          <p:cNvPr id="46"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Εμφανίζεται με τη μορφή του λεκτικού εκφοβισμού, του κοινωνικού εκφοβισμού,  του σωματικού εκφοβισμού , του ηλεκτρονικού εκφοβισμού , μέσω μηνυμάτων στο κινητό τηλέφωνο.</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641520" y="1768320"/>
            <a:ext cx="8616960" cy="5070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539640" y="2138400"/>
            <a:ext cx="8820360" cy="4332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539640" y="1900080"/>
            <a:ext cx="8820360" cy="4808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915840" y="1768320"/>
            <a:ext cx="8069400" cy="5070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539640" y="1803240"/>
            <a:ext cx="8820360" cy="5004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539640" y="1809720"/>
            <a:ext cx="8820360" cy="49896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426600"/>
            <a:ext cx="8820360" cy="125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ΣΩΜΑΤΙΚΟΣ</a:t>
            </a:r>
            <a:endParaRPr b="0" lang="en-US" sz="4400" spc="-1" strike="noStrike">
              <a:solidFill>
                <a:srgbClr val="ffffff"/>
              </a:solidFill>
              <a:latin typeface="Arial"/>
            </a:endParaRPr>
          </a:p>
        </p:txBody>
      </p:sp>
      <p:sp>
        <p:nvSpPr>
          <p:cNvPr id="48"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φυσικός τραυματισμός ή απειλή τραυματισμού προς κάποιον. Εκδηλώνεται με σπρωξίματα, σκουντήματα, αγκωνιές, γροθιές και κλοτσιές, τρικλοποδιές, χτυπήματα με αντικείμενα, τσιμπήματα και δαγκωνιές, περιορισμό του άλλου μέσω σωματικών πρακτικών.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ΛΕΚΤΙΚΟΣ</a:t>
            </a:r>
            <a:endParaRPr b="0" lang="en-US" sz="4400" spc="-1" strike="noStrike">
              <a:solidFill>
                <a:srgbClr val="ffffff"/>
              </a:solidFill>
              <a:latin typeface="Arial"/>
            </a:endParaRPr>
          </a:p>
        </p:txBody>
      </p:sp>
      <p:sp>
        <p:nvSpPr>
          <p:cNvPr id="50"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συστηματική χρησιμοποίηση υβριστικών εκφράσεων, φραστικών επιθέσεων, προσβολών και απειλών, αγενών σχολίων και ειρωνείας, χρήση παρατσουκλιών.</a:t>
            </a:r>
            <a:endParaRPr b="0" lang="en-US" sz="3200" spc="-1" strike="noStrike">
              <a:solidFill>
                <a:srgbClr val="ffffff"/>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ΕΚΦΟΒΙΣΜΟΣ ΜΕ ΕΚΒΙΑΣΜΟ</a:t>
            </a:r>
            <a:endParaRPr b="0" lang="en-US" sz="4400" spc="-1" strike="noStrike">
              <a:solidFill>
                <a:srgbClr val="ffffff"/>
              </a:solidFill>
              <a:latin typeface="Arial"/>
            </a:endParaRPr>
          </a:p>
        </p:txBody>
      </p:sp>
      <p:sp>
        <p:nvSpPr>
          <p:cNvPr id="52"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εκούσια απόσπαση χρημάτων ή προσωπικών αντικειμένων, η οποία συνοδεύεται από απειλές ή και τον εξαναγκασμό σε αντικοινωνικές πράξεις.</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ΕΜΜΕΣΟΣ Ή ΚΟΙΝΩΝΙΚΟΣ</a:t>
            </a:r>
            <a:endParaRPr b="0" lang="en-US" sz="4400" spc="-1" strike="noStrike">
              <a:solidFill>
                <a:srgbClr val="ffffff"/>
              </a:solidFill>
              <a:latin typeface="Arial"/>
            </a:endParaRPr>
          </a:p>
        </p:txBody>
      </p:sp>
      <p:sp>
        <p:nvSpPr>
          <p:cNvPr id="54"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προσπάθεια για κοινωνική απομόνωση ή αγνόηση ατόμου, για άσκηση επιρροής στην ομάδα των συνομηλίκων ώστε να αισθανθούν αντιπάθεια για κάποιο συγκεκριμένο συμμαθητή τους, διάδοση κακόβουλων φημών και ψευδών.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ΗΛΕΚΤΡΟΝΙΚΟΣ</a:t>
            </a:r>
            <a:endParaRPr b="0" lang="en-US" sz="4400" spc="-1" strike="noStrike">
              <a:solidFill>
                <a:srgbClr val="ffffff"/>
              </a:solidFill>
              <a:latin typeface="Arial"/>
            </a:endParaRPr>
          </a:p>
        </p:txBody>
      </p:sp>
      <p:sp>
        <p:nvSpPr>
          <p:cNvPr id="56"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αποστολή απειλητικού ή υβριστικού υλικού μέσω του ηλεκτρονικού ταχυδρομείου, των υπηρεσιών MMS και SMS που παρέχουν τα κινητά τηλέφωνα και των διαδικτυακών τόπων κοινωνικής δικτύωσης, χρήση ή παραποίηση των προσωπικών δεδομένων κάποιου ατόμου, αποκλεισμός του από μια δικτυακή ομάδα, κλήσεις στο κινητό του από άγνωστο νούμερο.</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ΡΑΤΣΙΣΤΙΚΟΣ</a:t>
            </a:r>
            <a:endParaRPr b="0" lang="en-US" sz="4400" spc="-1" strike="noStrike">
              <a:solidFill>
                <a:srgbClr val="ffffff"/>
              </a:solidFill>
              <a:latin typeface="Arial"/>
            </a:endParaRPr>
          </a:p>
        </p:txBody>
      </p:sp>
      <p:sp>
        <p:nvSpPr>
          <p:cNvPr id="58"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διάδοση αρνητικών σχολίων εξαιτίας της καταγωγής, της κοινωνικής τάξης, της οικονομικής κατάστασης, της διαφορετικότητας.</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0T15:46:57Z</dcterms:created>
  <dc:creator>ΓΩΓΩ ΓΕΩΡΓΑΤΖΟΓΛΟΥ</dc:creator>
  <dc:description/>
  <dc:language>en-US</dc:language>
  <cp:lastModifiedBy/>
  <cp:revision>1</cp:revision>
  <dc:subject/>
  <dc:title>Forest</dc:title>
</cp:coreProperties>
</file>